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6C3AF1C-00A7-4A8A-BBF3-951AE4E430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163EA4-8912-480B-8E97-03FBDE2434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12F74D6-3952-469F-A661-8F14129B8F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7BF166-10CF-4095-8719-CA5C0A87B82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11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Cosmopolitan Net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214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6880" y="5046840"/>
            <a:ext cx="7121520" cy="609480"/>
            <a:chOff x="596880" y="5046840"/>
            <a:chExt cx="7121520" cy="609480"/>
          </a:xfrm>
        </p:grpSpPr>
        <p:sp>
          <p:nvSpPr>
            <p:cNvPr id="220" name=""/>
            <p:cNvSpPr/>
            <p:nvPr/>
          </p:nvSpPr>
          <p:spPr>
            <a:xfrm>
              <a:off x="59688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223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 xx,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.7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414520"/>
            <a:ext cx="2819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aesthetic in a surprisi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880" y="2428920"/>
            <a:ext cx="3213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64824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eature comparis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nelope platform    versus   Series 60 platform ( 2.0 / 1.2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117440"/>
            <a:ext cx="2795760" cy="391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104840"/>
            <a:ext cx="350496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098720"/>
            <a:ext cx="3849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enelo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MA Stand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hoto album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editor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Video play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 Du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UI cus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00600" y="5157720"/>
            <a:ext cx="50911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16880" y="54151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9” display 25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57720"/>
            <a:ext cx="350496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600" y="54277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5” Penelo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display 64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51102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9840" y="51354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1600200"/>
            <a:ext cx="942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C-M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1120" y="1111320"/>
            <a:ext cx="26082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2.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7.0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1S (improv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SMIL enhancem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and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MF (Multimedia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Media ga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(email push and PT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I customization (ski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llet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6560" y="5181480"/>
            <a:ext cx="109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2080" y="5181480"/>
            <a:ext cx="1111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Under eval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130400"/>
            <a:ext cx="221004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123920"/>
            <a:ext cx="22096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1.2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6.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1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mandatory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orward 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alb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based on Series 60 / Penelop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4160" y="1219320"/>
          <a:ext cx="8432640" cy="5102280"/>
        </p:xfrm>
        <a:graphic>
          <a:graphicData uri="http://schemas.openxmlformats.org/drawingml/2006/table">
            <a:tbl>
              <a:tblPr/>
              <a:tblGrid>
                <a:gridCol w="1879560"/>
                <a:gridCol w="2361960"/>
                <a:gridCol w="2362320"/>
                <a:gridCol w="1828800"/>
              </a:tblGrid>
              <a:tr h="710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2.0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s plann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1.2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OMAP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</a:tr>
              <a:tr h="791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dire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oftware platform c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la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Project 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280" y="3699000"/>
            <a:ext cx="8780760" cy="58392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4840" y="17136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Financial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" y="514656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" y="440208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" y="315900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" y="266076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" y="211464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80" y="2060640"/>
            <a:ext cx="13651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K est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4320" y="1781280"/>
            <a:ext cx="69840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3240" y="1773360"/>
            <a:ext cx="719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0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2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080" y="1044720"/>
            <a:ext cx="107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5800" y="1781280"/>
            <a:ext cx="6955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9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9440" y="1781280"/>
            <a:ext cx="7207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5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8’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8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6246720"/>
            <a:ext cx="8663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) For LC EBIT calculation 9‘2 €  direct and indirect R&amp;D efforts Neo in FY 02/03 are taken into account in all three sce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3440" y="1801800"/>
            <a:ext cx="863640" cy="424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1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52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956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8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5080" y="1053720"/>
            <a:ext cx="223236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Penel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1052280"/>
            <a:ext cx="154008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SX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08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1052280"/>
            <a:ext cx="230364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as of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1/05-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1052280"/>
            <a:ext cx="863640" cy="65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X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9440" y="25236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st / rough  estimatio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8900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2280" y="90792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46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0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89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180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103‘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181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9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55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0" y="5727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LC EBI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de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760" y="1189080"/>
            <a:ext cx="69595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ased on the scenarios it was strongly recommended from Rea Team on the 3.11.03 to switch to the proprietary platfor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EBIT ov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Rel99 and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TTM (launch target 9/04 with 100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complete rework of mechanic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A-GPS; No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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Camera; No memory card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with and supported from Sales and S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from MP-board on 4.1.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59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75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unch in 9/04 with 10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C 1,7 M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78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, high value design -&gt; Messaging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 Camera; No MMC slot; No A-GPS; No W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81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F Connector in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84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0760" y="26416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7332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608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8840" y="26906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0760" y="17272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7332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8608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8840" y="17762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488600">
            <a:off x="378000" y="2906280"/>
            <a:ext cx="7396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R&amp;D effort / cos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008000"/>
          <a:ext cx="769608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08000"/>
                    <a:ext cx="7696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1-06T13:15:32Z</dcterms:modified>
  <cp:revision>534</cp:revision>
  <dc:subject/>
  <dc:title>Template Project Status Review</dc:title>
</cp:coreProperties>
</file>